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0B6-7DC1-497A-8913-22D80B32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E2F-D332-4526-8169-545163EF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7F1-4B32-4B3B-AA69-E1D78139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646-C9E7-4872-9EC9-51463DFC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725-CF19-4D32-B3D3-1E834D7E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CB8-F10C-4755-8606-3FE0B38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E29-14A9-489D-9C97-570D402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B7C-36EB-4423-A749-F60F5274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CEB-9EC8-4F88-B0A7-01AC49E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13B-A2D2-46DE-8662-7D945079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F31-AC66-4F61-A3B7-1825AB9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8B3-C508-408C-8A09-AC27663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398-1FEC-4867-9AC7-6B2A7CAB7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16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Sept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13000"/>
            <a:ext cx="8686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 can be internal or external and is important wh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in poor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ti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practice is repet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447920"/>
            <a:ext cx="8686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ask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mplete page 10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ime – 5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838080"/>
            <a:ext cx="8686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Between Arousal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3532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at can affect levels of arous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268280"/>
            <a:ext cx="84582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1. Complete the coaches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2. Complete the match analysis schedules on page 15 in your course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3. Complete the top question on page 16 of your course notes (not the sample questions, the one above th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Due date – Wednesday 23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Comic Sans MS"/>
              </a:rPr>
              <a:t>rd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349360"/>
            <a:ext cx="8642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the results of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2 aspects of ment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analysing all fitness tests set priorities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060640"/>
            <a:ext cx="8424720" cy="34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pete the match analysis schedul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ime – 10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349360"/>
            <a:ext cx="8642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the results of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2 aspects of ment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analysing all fitness tests set priorities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chedule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1773360"/>
          <a:ext cx="7772400" cy="4635360"/>
        </p:xfrm>
        <a:graphic>
          <a:graphicData uri="http://schemas.openxmlformats.org/drawingml/2006/table">
            <a:tbl>
              <a:tblPr/>
              <a:tblGrid>
                <a:gridCol w="1149480"/>
                <a:gridCol w="1172880"/>
                <a:gridCol w="1398600"/>
                <a:gridCol w="1400400"/>
                <a:gridCol w="1398600"/>
                <a:gridCol w="1252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Time 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tanding St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Wal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Jog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Mid-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0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60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chedule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610160"/>
        </p:xfrm>
        <a:graphic>
          <a:graphicData uri="http://schemas.openxmlformats.org/drawingml/2006/table">
            <a:tbl>
              <a:tblPr/>
              <a:tblGrid>
                <a:gridCol w="925560"/>
                <a:gridCol w="1398600"/>
                <a:gridCol w="1398600"/>
                <a:gridCol w="1398600"/>
                <a:gridCol w="1398600"/>
                <a:gridCol w="1252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Time 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tanding St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Wal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Jog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Mid-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0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60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chedule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633920"/>
        </p:xfrm>
        <a:graphic>
          <a:graphicData uri="http://schemas.openxmlformats.org/drawingml/2006/table">
            <a:tbl>
              <a:tblPr/>
              <a:tblGrid>
                <a:gridCol w="923760"/>
                <a:gridCol w="1398600"/>
                <a:gridCol w="1398600"/>
                <a:gridCol w="1400400"/>
                <a:gridCol w="1398600"/>
                <a:gridCol w="1252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Time 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tanding St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Wal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Jog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Mid-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0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60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295280"/>
            <a:ext cx="8686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termin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The desire to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295280"/>
            <a:ext cx="8686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termina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mporta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win a 50:50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reach a ball that is running out of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tigue sets in and you must continue to maintain a high level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9548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What drives a performer to improve and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16T10:32:28Z</dcterms:modified>
  <cp:revision>19</cp:revision>
  <dc:subject/>
  <dc:title>Intermediate PE</dc:title>
</cp:coreProperties>
</file>